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9A1C-F00E-4944-AC6C-7CF679EBA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BADA-4CE8-40D4-852B-8DBA6465827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8B85-9BD4-428A-B2BE-5B4E0EE6EA2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A09C-E9CA-43A0-BE99-C654B6B15FDE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1BAF-6FAB-4F0F-A301-923B1226F2A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BEE9-9F59-43B9-A7C5-18D03AD9DF1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F03-77C2-4C4F-9C3A-44127678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5BD-67C6-4C8F-9F03-29583960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F1F-493C-4077-911A-650A5A0C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C5D-08D9-4918-B6B1-04A208FD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886C-2C8C-4F26-8D11-111394F8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CD0A-2989-4E74-B5DF-216F495E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FE70-60D2-448D-83C8-9D3032E4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04C2-5397-479F-B207-A0B199CE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AEC9-91C8-4645-82B6-8EF0B92A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3271-BBDE-435B-B922-257BBA26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61A0-A7DB-40B1-B6F0-3C4CB167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4D6-B262-4126-AE30-0F877312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790C-B077-4BC1-A3E7-7D8D1C79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2EFF-C4BD-4A25-95FA-4F451524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D99E-889A-45AA-852A-BA653227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359E-E081-4330-B729-44DF6A50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64D8-A1A9-4579-B16B-DFAD06A0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201-BBB8-46B2-8D21-613BE6C5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A6B-D740-486A-827F-DF7C2E1D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35C5-6820-4ECB-AEB7-4F5AA3C4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035-81AC-499D-9A88-20A95E70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188-8FA7-44B5-A071-104D2354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266-AE44-45AA-AB58-EE5FA159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C45-1307-4D7A-8356-E55D0FE7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BA98-8AC2-439D-B421-35EAF6029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CDB4-3733-4BCC-AD7A-25E69E5CB3E5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icture Books, Conversations, and Embedded Strategy Instruction for Predict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-o-gram: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row Boy by Tara Yashima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ow would Taro Yashima use each vocabulary word? forlorn, interesting, trudging, imagine, graduation, attendance, admired, announced, charcoal, rejecte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6680" y="3581280"/>
          <a:ext cx="7086600" cy="256068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Where the story took plac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Characters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in the story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roblem or goal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th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main character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lution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to the problem or </a:t>
                      </a: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ttainment </a:t>
                      </a: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of goal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Anticipation Guide: </a:t>
            </a:r>
            <a:br>
              <a:rPr sz="4400"/>
            </a:b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Tuck Everlasting by Natalie Babbit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major themes – write several statements – students discuss &amp; react before reading and then revisit after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3510000"/>
          <a:ext cx="7543800" cy="2662200"/>
        </p:xfrm>
        <a:graphic>
          <a:graphicData uri="http://schemas.openxmlformats.org/drawingml/2006/table">
            <a:tbl>
              <a:tblPr/>
              <a:tblGrid>
                <a:gridCol w="914400"/>
                <a:gridCol w="1218960"/>
                <a:gridCol w="5410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Disagree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It would be wonderful to live forever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You should never do something that your parents have forbidden.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People should have the right to sell products even if they are harmful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2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330000"/>
                          </a:solidFill>
                          <a:latin typeface="Arial"/>
                        </a:rPr>
                        <a:t>Some secrets are so important that it is acceptable to do anything in order to keep them. </a:t>
                      </a:r>
                      <a:endParaRPr b="0" lang="en-US" sz="1800" spc="-1" strike="noStrike">
                        <a:solidFill>
                          <a:srgbClr val="33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dc4c"/>
                      </a:solidFill>
                    </a:lnL>
                    <a:lnR w="5760">
                      <a:solidFill>
                        <a:srgbClr val="ffdc4c"/>
                      </a:solidFill>
                    </a:lnR>
                    <a:lnT w="5760">
                      <a:solidFill>
                        <a:srgbClr val="ffdc4c"/>
                      </a:solidFill>
                    </a:lnT>
                    <a:lnB w="5760">
                      <a:solidFill>
                        <a:srgbClr val="ffdc4c"/>
                      </a:solidFill>
                    </a:lnB>
                    <a:solidFill>
                      <a:srgbClr val="fff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Cultivating Conversations (Chapter 3)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Scaffold discussion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ap student’s understanding of text and strategie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ek clarification with examples &amp; detail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vite participation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Orchestrate discussion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React and build off one another’s ideas, rather then just “question and answer quizzes” from the teacher.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Booktalk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may spark this opportunity.</a:t>
            </a: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 </a:t>
            </a:r>
            <a:endParaRPr b="0" lang="en-US" sz="2500" spc="-1" strike="noStrike">
              <a:solidFill>
                <a:srgbClr val="33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Literature circle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/ </a:t>
            </a:r>
            <a:r>
              <a:rPr b="0" lang="en-US" sz="2500" spc="-1" strike="noStrike" u="sng">
                <a:solidFill>
                  <a:srgbClr val="330000"/>
                </a:solidFill>
                <a:uFillTx/>
                <a:latin typeface="Arial"/>
              </a:rPr>
              <a:t>Textbook circles</a:t>
            </a:r>
            <a:r>
              <a:rPr b="0" lang="en-US" sz="2500" spc="-1" strike="noStrike">
                <a:solidFill>
                  <a:srgbClr val="330000"/>
                </a:solidFill>
                <a:latin typeface="Arial"/>
              </a:rPr>
              <a:t> may provide space for discussions about strategy use (e.g., predict, read, and discuss while applying strategies).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esigning Lessons For Students to Apply 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00"/>
                </a:solidFill>
                <a:latin typeface="Arial"/>
              </a:rPr>
              <a:t>The Seal Woman    OR     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330000"/>
                </a:solidFill>
                <a:latin typeface="Arial"/>
              </a:rPr>
              <a:t>The Frog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Read the story once for meaning.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Read again for stopping points and mark.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Anticipation Guide: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Think of the important message and compose one sentence for students to agree/disagree with at beginning and end.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00"/>
                </a:solidFill>
                <a:latin typeface="Arial"/>
              </a:rPr>
              <a:t>Create three “Read &amp; Think” prompts</a:t>
            </a: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 at important stopping points that require thinking/predicting about the main issues/problems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00"/>
                </a:solidFill>
                <a:latin typeface="Arial"/>
              </a:rPr>
              <a:t>Exchange with your partner to complete. 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Understand the components of predicting as a reading strategy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Explore different activities for encouraging students to “notice” when and how to “apply” a strategy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Try your hand at designing two mini-activities that facilitate predicting using a short text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ursday Oct. 1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– meet in librar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uesday Oct. 6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(Groups): see wikispace for link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earse (1992) Fairy tale connections in Children’s Stories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Cinderella Around the World Telecollaborative Project 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Book Activity #2 - part in class and part for homework - see handout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hursday, Oct. 8: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rategy Book: Making Connections; Block &amp; Israel Article -- Book Activity #2 due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Tuesday, Oct. 13 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yllabus Readings and Book Activity #3: Strategy Script du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roups for Cinderella Cla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1: Andrew, Sandy, Christin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2: Christina, Felicia, Kaela, Margaux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3: Steven, Molly, Samanth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4: Tessa, Lindsay, Rachel, Megan V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5: Meagan M., Karine, Angel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roup 6: Brandon, Katie, Allyssa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1. Understand the components of predicting as a reading strategy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2. Explore different activities for encouraging students to “notice” when and how to “apply” a strategy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3. Try your hand at designing two mini-activities that facilitate predicting using a short text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Good Strategy Instruc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? (name it and define it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y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important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do you use the strategy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is it useful?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remember Explain &amp; Define; Notice and Apply from your textbook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Why do good readers predict?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gives a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for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build internal tens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anticipate a satisfying en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onnec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prior knowledge &amp; new inform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edictions serve as guideposts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e monitor our predictions from time to time to see how they hold up (That’s what I thought! -- Wow, that’s not what I thought!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edicting vs. Inferr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 reasoned assumption about meaning not directly stated in the tex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Slot-filling inferenc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adds background knowledge to a text - fill in the slot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Mary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had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a little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lamb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00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fleece was white as snow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Text-connecting inference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: Connect two pieces of information in the text.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ary had a lamb for her entrée. It was once white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 prediction is one type of inference, but there are many others.   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Problems with Predict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’s predictions are often inaccurate, because of the text or the reader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ildren underestimate the importance of text features in informational text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ny children don’t take the time to predict properly and never revisit to solidify or revise their prediction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r Teaching Goal: Help students make predictions that ar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accurate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meaningfu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Define… Explain…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Notice… Appl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efine and Explai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is a prediction different than a guess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od, so what I hear you saying is…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plain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let go a little to facilitate students monitoring their strategy use)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Look at the tally sheet - Once you predict, you’re going to think about what you used to make that prediction.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when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do we predic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ee the Predicting Tally Sheet (p. 204) but be careful about being too prescriptive!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1. Title, headings, cover, pictures, cap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2. Ask ques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3. Knowledge of the topic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4. Knowledge about the author/genre/book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5. Text organization &amp; structure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6. Past events in the text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7. Meaningful connection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8. Knowledge of the character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62120" y="6248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0000"/>
                </a:solidFill>
                <a:latin typeface="Arial"/>
              </a:rPr>
              <a:t>Now, notice and apply with </a:t>
            </a:r>
            <a:r>
              <a:rPr b="1" i="1" lang="en-US" sz="2400" spc="-1" strike="noStrike">
                <a:solidFill>
                  <a:srgbClr val="320000"/>
                </a:solidFill>
                <a:latin typeface="Arial"/>
              </a:rPr>
              <a:t>Once There Was a Bull..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Notice &amp; Apply (Activities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Title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Anticipation Guide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 (see next slide)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Topic/Vocab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Predict-o-gram 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(see next slide)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Sticky Note Questions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Questions..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Preview, Read, Question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Directed Reading/Thinking Activity: 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Make a prediction, read to find out, &amp; verify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Author/Genre…</a:t>
            </a:r>
            <a:r>
              <a:rPr b="1" lang="en-US" sz="2700" spc="-1" strike="noStrike">
                <a:solidFill>
                  <a:srgbClr val="330000"/>
                </a:solidFill>
                <a:latin typeface="Arial"/>
              </a:rPr>
              <a:t>Story map</a:t>
            </a: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; genre features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SzPct val="1028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00"/>
                </a:solidFill>
                <a:latin typeface="Arial"/>
              </a:rPr>
              <a:t>Predict what you’d find in types of expository texts: ABC books, magazines, newspapers, ads, brochures, invitations, menus</a:t>
            </a:r>
            <a:endParaRPr b="0" lang="en-US" sz="27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1:26:21Z</dcterms:created>
  <dc:creator>Julie Coiro</dc:creator>
  <dc:description/>
  <dc:language>en-US</dc:language>
  <cp:lastModifiedBy>Julie Coiro</cp:lastModifiedBy>
  <dcterms:modified xsi:type="dcterms:W3CDTF">2009-09-29T02:30:21Z</dcterms:modified>
  <cp:revision>153</cp:revision>
  <dc:subject/>
  <dc:title>Metacognitive Strategy Instruction to Enhance Reading Comprehension</dc:title>
</cp:coreProperties>
</file>